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158-5C1A-417E-B736-5C4F11AE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920-2C3E-4A1A-AB2B-5B01C3B1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24F-41D1-4C61-8346-51495454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825-8406-405D-BC71-ABDC76E4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CE47-9313-417E-BB6F-F31DC3FC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98A2-F0E0-4E24-960A-935F2B4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6FC2-E05F-4FFB-B43F-EDE21C4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4CE7-1854-430F-A874-0BD55DF0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BB3-C500-4441-816C-D8D12F4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8359-E259-4D57-B689-8D0774A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2D08-7A3A-403D-8E46-698645C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EDC-056D-465B-8749-5C1A307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A9A7-7CA7-4AC2-BFF5-8B9C0E3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CDC-F1C5-4AD4-890D-C076905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ACD5-6403-407E-BFE5-E9BF6D4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FFB1-64A6-4EBC-9200-1915C0AB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C298-C7FE-46EC-A024-1F22CCA4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780-8739-48D4-ABA2-A578C82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44D-084A-4CA2-8B0F-17DB06AF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007-6A62-450C-B1BB-9408958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7B9-A66B-4374-9F9A-DF732D3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2EF-4E11-4D18-A1DC-23E53E36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86D-44B0-4B8B-8553-D17E119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47B-BDC0-4EE9-AC11-DBA1D31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917-BB43-45A1-B299-7766CD147C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819C-8510-48F0-9F44-CFDB3A3B9F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ces.ed.gov/nceskids/createagraph/default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886200"/>
            <a:ext cx="66294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o Create B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your minimum and maximum values you set up for both the Y and X-axis. (For most bar graphs, the X-axis will not have numerical values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interval for the scale you have chosen. The interval is the amount between one value and the nex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ighly recommended to use a common number for an interval such as 2, 5, 10, 25, 100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val for the Y-axis is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2670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-axis does not have numerical data and does not need a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90920" y="25905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6172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xes need to be labeled so the reader knows exactly what the independent and dependent variables 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endent variable must be specific and include the units used to measure the data (such as “number of drop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5623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289548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9720" y="5638680"/>
            <a:ext cx="2210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2514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70000" y="5334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handy acronym to help you remember everything you need to create your graph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.A.I.L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838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97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480" y="1981080"/>
            <a:ext cx="403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both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V on X-axis and DV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terval (4) is appropriate for this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oth axes are labe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 and max values are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657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 Graphs v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r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8288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s are descripti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pare groups of data such as amounts and categor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elp us make generalizations and see differences in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371600" y="165744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aw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ne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20574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s show a relationship between the two variables. They show how/if the IV affects the DV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, the IV plotted on the X-axis is ti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ful for showing trends in data and for making pred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600200" y="16002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eate-a-Graph Online!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use the online t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05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9280" y="44737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9280" y="45864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362320"/>
            <a:ext cx="2743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observed and meas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30477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changed by the scien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267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to remember which data goes on which axis is the acrony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Y 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.R.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.I.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nip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-ax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83808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 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appropriate title for the graph at the to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should contain both the independent and dependent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scale for each axi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e refers to the min and max numbers used on each axis. They may or may not begin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 and max numbers used for the scale should be a little lower than the lowest value and a little higher than the highest valu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you to have a smaller range which emphasizes the comparisons/trends in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167652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10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value though is only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67652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now from 0-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a better job emphasizing the comparisons between co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0:38:44Z</dcterms:created>
  <dc:creator>Mary Poarch</dc:creator>
  <dc:description/>
  <dc:language>en-US</dc:language>
  <cp:lastModifiedBy>Current User</cp:lastModifiedBy>
  <dcterms:modified xsi:type="dcterms:W3CDTF">2007-09-18T03:14:53Z</dcterms:modified>
  <cp:revision>49</cp:revision>
  <dc:subject/>
  <dc:title>Slide 1</dc:title>
</cp:coreProperties>
</file>