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D07-6F08-45BA-8F28-89E8BAAF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1C0-39F0-4A2A-8EA5-9D3AFE96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2DB-7FB5-43F7-8B09-E34705C2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D02-C804-4BAE-99C9-B0C365FF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DACA-EAD8-4E62-B027-4C528DD6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E94C-7F58-49CA-932C-F7E982F5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2161-482A-43B0-8108-2D9AE0FC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6974-750A-4239-8935-B9F6B04F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3D77-A999-49B9-A7AB-556ED100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C6E3-AA9A-4ECC-BD88-DE30D3D7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1E49-8154-4A0A-9E04-7735A6F9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220-F1A4-4CE9-81C0-88296DC4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FFE2-D714-4485-A69E-2E7EE8E6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7B09-A07E-40F9-883C-0D94F34B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4785-3D8A-41C1-8D67-A568B663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E93-9A41-4BD1-AA6C-496D81B6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6ABB-A7DE-4E75-8C50-3EA51CCD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0F9-47EF-43F9-97BC-E9B37EF4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F3E-8B97-45B2-A83D-9E167709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507-655D-4473-92BB-0F542C64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F3A-729E-405D-8299-F966531F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511-C1BF-4805-87E4-A043B381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48B-6C2F-4D4E-A2A5-FABDB707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F23-A95B-4758-A9BD-41FDD4B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6A0D-D94C-41F7-B048-A014E74D11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8FB2-C520-44C1-B1C1-08149A4715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ces.ed.gov/nceskids/createagraph/default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3886200"/>
            <a:ext cx="66294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to Create B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ine Graphs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your minimum and maximum values you set up for both the Y and X-axis. (For most bar graphs, the X-axis will not have numerical values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an appropriate interval for the scale you have chosen. The interval is the amount between one value and the nex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ighly recommended to use a common number for an interval such as 2, 5, 10, 25, 100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209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val for the Y-axis is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42670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-axis does not have numerical data and does not need a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90920" y="25905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09680" y="61722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xes need to be labeled so the reader knows exactly what the independent and dependent variables 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endent variable must be specific and include the units used to measure the data (such as “number of drop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5623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6680" y="289548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9720" y="5638680"/>
            <a:ext cx="22100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" y="2514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70000" y="5334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57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handy acronym to help you remember everything you need to create your graph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.A.I.L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838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979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9480" y="1981080"/>
            <a:ext cx="40388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both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V on X-axis and DV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interval (4) is appropriate for this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oth axes are labe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 and max values are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6576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 Graphs v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ar Graph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8288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s are descripti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mpare groups of data such as amounts and categor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elp us make generalizations and see differences in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743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IMAGE OF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371600" y="165744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other 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743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2946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IMAGE OF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aw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ne Graph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20574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s show a relationship between the two variables. They show how/if the IV affects the DV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imes, the IV plotted on the X-axis is ti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useful for showing trends in data and for making predi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057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IMAGE OF LINE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other example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057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IMAGE OF LINE CHART: To save this image to your hard drive, right-click on the image and select Save Picture As..."/>
          <p:cNvPicPr/>
          <p:nvPr/>
        </p:nvPicPr>
        <p:blipFill>
          <a:blip r:embed="rId1"/>
          <a:stretch/>
        </p:blipFill>
        <p:spPr>
          <a:xfrm>
            <a:off x="1600200" y="16002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reate-a-Graph Online!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Click he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use the online t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ntify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905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9280" y="447372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ntify the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5105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9280" y="45864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362320"/>
            <a:ext cx="27432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is observed and meas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5181480"/>
            <a:ext cx="30477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is changed by the scien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2674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to remember which data goes on which axis is the acrony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Y M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.R.Y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.I.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nip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o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Y-ax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838080"/>
            <a:ext cx="21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Y M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appropriate title for the graph at the top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 should contain both the independent and dependent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an appropriate scale for each axi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ale refers to the min and max numbers used on each axis. They may or may not begin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 and max numbers used for the scale should be a little lower than the lowest value and a little higher than the highest valu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you to have a smaller range which emphasizes the comparisons/trends in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1676520"/>
            <a:ext cx="251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axis scale i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10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value though is only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57150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70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67652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axis scale is now from 0-4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a better job emphasizing the comparisons between co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0:38:44Z</dcterms:created>
  <dc:creator>Mary Poarch</dc:creator>
  <dc:description/>
  <dc:language>en-US</dc:language>
  <cp:lastModifiedBy>Current User</cp:lastModifiedBy>
  <dcterms:modified xsi:type="dcterms:W3CDTF">2007-09-18T03:14:53Z</dcterms:modified>
  <cp:revision>49</cp:revision>
  <dc:subject/>
  <dc:title>Slide 1</dc:title>
</cp:coreProperties>
</file>