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D2F-E5EA-403B-9107-FA4F6664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AB7-DA2C-4BC9-A71E-7037353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C53-45F6-4CE5-B079-F4BEAC27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891-9AF5-4ADA-9B37-48B00624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84E-E7A5-4C2F-A7B7-CE1B7652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F636-63BB-4E08-B1BC-166AB999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7C6F-6243-4128-962D-E583D2E7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B16-2FC8-410B-9A03-EF85862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B18-FD50-43B7-B1D2-FDDDBE5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322D-7EE9-499A-A9E2-C269C47A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F89F-A035-495A-8C65-D501847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9A4-EC50-426B-AB4D-54B3083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C33-85E4-4425-A592-8E44E60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09D-5BB6-442A-95B6-1DCBF71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526D-2123-402F-A115-1471461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AFDC-59C1-4BF7-A47B-CD60983B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BD53-E8DA-486C-A1E3-F9C87E67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1E1-7897-482A-9390-3B27797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615-79F8-463B-A235-A0E0499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C37-E4AE-48DB-84CE-9DF343F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328-0B40-4181-8B79-7F0FDE8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ABA-C7EE-4F8C-AEEC-4B029CA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B88-30A4-42A7-B572-01BAB41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217-A3D1-4A14-9756-E124639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DB4-4434-4748-B9D1-D4EC1560D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5FF-B9D6-4001-8E3C-8467DCDA17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86200"/>
            <a:ext cx="6629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o Create B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your minimum and maximum values you set up for both the Y and X-axis. (For most bar graphs, the X-axis will not have numerical value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interval for the scale you have chosen. The interval is the amount between one value and the nex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ighly recommended to use a common number for an interval such as 2, 5, 10, 25, 100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al for the Y-axis i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-axis does not have numerical data and does not need a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90920" y="2590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6172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xes need to be labeled so the reader knows exactly what the independent and dependent variables 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 must be specific and include the units used to measure the data (such as “number of drop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5623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289548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9720" y="5638680"/>
            <a:ext cx="2210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2514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70000" y="5334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handy acronym to help you remember everything you need to create your graph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.A.I.L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97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480" y="1981080"/>
            <a:ext cx="403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both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V on X-axis and DV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terval (4) is appropriate for this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th axes are lab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and max values are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657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 Graphs v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r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s are descripti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pare groups of data such as amounts and categor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lp us make generalizations and see differences in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371600" y="16574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aw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ne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0574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s show a relationship between the two variables. They show how/if the IV affects the D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, the IV plotted on the X-axis is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ful for showing trends in data and for making pred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600200" y="16002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e-a-Graph Online!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use the online t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9280" y="44737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9280" y="45864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362320"/>
            <a:ext cx="274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observed and meas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30477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changed by the scien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to remember which data goes on which axis is the acrony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 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.R.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.I.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nip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-ax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3808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appropriate title for the graph at the to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should contain both the independent and dependent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scale for each ax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e refers to the min and max numbers used on each axis. They may or may not begin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 and max numbers used for the scale should be a little lower than the lowest value and a little higher than the highest valu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have a smaller range which emphasizes the comparisons/trends i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167652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10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value though is only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765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now from 0-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a better job emphasizing the comparisons between co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0:38:44Z</dcterms:created>
  <dc:creator>Mary Poarch</dc:creator>
  <dc:description/>
  <dc:language>en-US</dc:language>
  <cp:lastModifiedBy>Current User</cp:lastModifiedBy>
  <dcterms:modified xsi:type="dcterms:W3CDTF">2007-09-18T03:14:53Z</dcterms:modified>
  <cp:revision>49</cp:revision>
  <dc:subject/>
  <dc:title>Slide 1</dc:title>
</cp:coreProperties>
</file>