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7D6-9DE3-41BF-BCA7-79F631FD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193-6301-4F80-B842-55574C74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42D-227D-44D9-A1EB-6EBB5CB6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B84-99AC-4B4B-9238-F00F521A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A83D-A1D6-47E0-8C84-DEA8991C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1310-56E9-4A71-936C-FDF9B6C2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2A6D-840D-4BF7-8EA9-E3A8A7A5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EF0F-166E-4490-9F90-384FB2A0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E28A-8788-4B7C-9939-93927BCA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EA04-09CB-4940-880F-027E1377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27EC-B6F4-498A-BB8B-1AEBA401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8C0-71F0-4FEB-BA67-EF026C47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6FDE-07E9-49F8-8447-B89AA8FD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31CB-6CC3-4F73-882B-488484BE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DB42-04CC-4EE9-B009-7A86D869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A029-2F7B-4F78-838E-5D8B153A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CE2C-A9D7-4262-B2C5-27CD158B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250-5305-4A68-B459-BB8F25A7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68C-13B6-4EA8-B83E-28B1C9E9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3A0-7688-4A3E-AB1D-582FCDD3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407-8461-4275-98EC-8011CFC4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7D9-1FCE-4255-BF5F-85E6DE2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0EA-AE36-40F8-A728-B8550EE9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B1B-B874-4AD4-9B20-25F6A4E3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413C-BC54-4F79-89EC-75E24906CA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F4E-194D-4276-9DA0-2C37E4D444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ces.ed.gov/nceskids/createagraph/default.aspx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3886200"/>
            <a:ext cx="662940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to Create B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ine Graphs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er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your minimum and maximum values you set up for both the Y and X-axis. (For most bar graphs, the X-axis will not have numerical values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an appropriate interval for the scale you have chosen. The interval is the amount between one value and the nex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ighly recommended to use a common number for an interval such as 2, 5, 10, 25, 100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er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2209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val for the Y-axis is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42670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-axis does not have numerical data and does not need a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90920" y="25905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09680" y="61722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xes need to be labeled so the reader knows exactly what the independent and dependent variables a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pendent variable must be specific and include the units used to measure the data (such as “number of drop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5623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6680" y="2895480"/>
            <a:ext cx="10670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9720" y="5638680"/>
            <a:ext cx="22100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" y="2514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70000" y="5334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57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handy acronym to help you remember everything you need to create your graph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.A.I.L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838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979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9480" y="1981080"/>
            <a:ext cx="40388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both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V on X-axis and DV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interval (4) is appropriate for this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oth axes are labe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 and max values are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6576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 Graphs v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ar Graph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8288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graphs are descripti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mpare groups of data such as amounts and categor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elp us make generalizations and see differences in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743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IMAGE OF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371600" y="165744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other 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743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294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IMAGE OF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aw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ine Graph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20574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graphs show a relationship between the two variables. They show how/if the IV affects the DV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imes, the IV plotted on the X-axis is ti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useful for showing trends in data and for making predi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057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IMAGE OF LINE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other 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057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IMAGE OF LINE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600200" y="16002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reate-a-Graph Online!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Click he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use the online t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dentify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905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9280" y="447372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dentify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828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9280" y="45864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362320"/>
            <a:ext cx="27432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at is observed and meas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5181480"/>
            <a:ext cx="30477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at is changed by the scient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2674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 to remember which data goes on which axis is the acrony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Y M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.R.Y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.I.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nip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po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Y-ax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838080"/>
            <a:ext cx="21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Y M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n appropriate title for the graph at the top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tle should contain both the independent and dependent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an appropriate scale for each axi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ale refers to the min and max numbers used on each axis. They may or may not begin at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 and max numbers used for the scale should be a little lower than the lowest value and a little higher than the highest valu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you to have a smaller range which emphasizes the comparisons/trends in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120" y="1676520"/>
            <a:ext cx="251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axis scale i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10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st value though is only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676520"/>
            <a:ext cx="25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axis scale is now from 0-4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es a better job emphasizing the comparisons between co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0:38:44Z</dcterms:created>
  <dc:creator>Mary Poarch</dc:creator>
  <dc:description/>
  <dc:language>en-US</dc:language>
  <cp:lastModifiedBy>Current User</cp:lastModifiedBy>
  <dcterms:modified xsi:type="dcterms:W3CDTF">2007-09-18T03:14:53Z</dcterms:modified>
  <cp:revision>49</cp:revision>
  <dc:subject/>
  <dc:title>Slide 1</dc:title>
</cp:coreProperties>
</file>